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9.jpeg" ContentType="image/jpeg"/>
  <Override PartName="/ppt/media/image3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70A-0731-43E6-8536-C5EF66C9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DCF-691E-4CCF-976B-74314262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0F8-0F61-43EC-A89F-6DAD092C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167-FE63-4A0B-B318-0B9B4788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EEA6-AC96-4C30-918E-7ECB048A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B1A5-ED28-470F-9587-D2303E0F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1399-D69C-406D-AF28-771E3B19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1DB8-1112-413D-B2AB-0EF7FD85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FF9D-165F-48B6-9B2A-301C8DAE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D3D4-F74C-47EA-B72D-BA140E47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F6CE-8241-42F4-B930-85DAB697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2F9-2C81-45CE-B5AA-5082C3CD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F33F-CC5C-4EA8-A7AB-3DCB1531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90EC-5DED-43BC-ABD0-C265FBC4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BE54-D3DC-49BA-8843-4E3E9038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1464-DEAE-4D9A-8115-ABAA3F72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5043-B0A0-4271-8518-B1BB4DED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0EDE1-0F4C-42F7-9406-EEDEDE08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B21E5-32DB-423A-AED3-49976C82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3E637-4645-4E2D-9291-528AD7D6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818D1-4DB5-4B15-90A7-4C9D3CBA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D810F-530C-459F-B2BA-C3A5E711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510-6BAE-4022-BAC6-AEAFBDEA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CC4C7-58E0-4727-A21E-4A4ED36C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97A55-B032-4386-8467-0A480FBE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3364F-24D7-4C07-9C5B-BCF9A2F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DB2D9-02B1-4502-A9F7-A181C244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4EF6B-09FA-43C4-ABB2-27469E83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AE2E8-8407-45FA-8B17-03EC7A94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DB0D3-3EAF-49C1-AA19-F7332BF3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9822E-C5C5-4864-A81D-926FBB80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678E-D643-4851-8B20-CEC7146A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1B1C-FAEB-4F9F-AC08-82C033B3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F01-C538-4D5D-AA54-CE7D753C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9286-4391-4083-A86A-70E452F3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20AB-DFAC-42BE-A9D6-5A479F80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DFAE-0CD9-4F73-AF18-2C0CEF1B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77F27-8594-4F94-A56C-A163A792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BDD1-13D2-4A0F-975F-981CD86E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6844-F020-4251-B0A0-12A07C50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985BB-FB11-4139-9B25-DCD6586A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B15F-043C-4955-B853-D32479D0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DC39-D708-4CB9-BCA6-1A1A3CB6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A04-A529-474A-A92B-B69C191A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B1B-FFC4-443F-AB2A-B96A2AC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F13-A13A-46B3-9751-98190695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B03-B66F-4C55-9AFC-8E3ADA8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8A9-FAFB-4653-B2F3-CE39CB5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5384-9032-4990-A2B6-34BE007861E4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50BD-0AA5-45EC-B3E4-F85A4646BC3F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0528-326B-47AC-808D-2A93452D0749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4824-FDF9-4FCD-9388-53F06EF5E7A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27B3-5C62-4450-B2B8-1D9F72658755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2F30-D013-411F-A7FB-0885EDC2250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E540-6C1C-46F2-99B6-70C09E0F0323}" type="datetime">
              <a:rPr b="0" lang="en-US" sz="800" spc="-1" strike="noStrike">
                <a:solidFill>
                  <a:srgbClr val="b0ccb0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7F5F-E31F-4B3E-8E87-E31681CA3F66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oil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Thin Layer Providing Life</a:t>
            </a:r>
            <a:br>
              <a:rPr sz="4000"/>
            </a:b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295280" y="490680"/>
            <a:ext cx="6477120" cy="6229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Living Organisms Found in Soil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s of life in soil incl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rthwor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e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ng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ther organi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C:\Documents and Settings\kmyers.HS-LAPTOP\Local Settings\Temporary Internet Files\Content.IE5\2F8WAHKY\MPj04385240000[1].jpg"/>
          <p:cNvPicPr/>
          <p:nvPr/>
        </p:nvPicPr>
        <p:blipFill>
          <a:blip r:embed="rId1"/>
          <a:stretch/>
        </p:blipFill>
        <p:spPr>
          <a:xfrm>
            <a:off x="4572000" y="3886200"/>
            <a:ext cx="3048120" cy="201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Bacteria and Fungi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18960" y="1904760"/>
            <a:ext cx="74674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reak down organic matter and release nutrie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ve symbiotic relationships with plants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Symbiosi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s the living together of unlike organisms where both organisms benefi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ungi get glucose and sucrose from plant roo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lants are assisted in the absorption of water and mineral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C:\Documents and Settings\kmyers.HS-LAPTOP\Local Settings\Temporary Internet Files\Content.IE5\1360HSEE\MCj04324230000[1].wmf"/>
          <p:cNvPicPr/>
          <p:nvPr/>
        </p:nvPicPr>
        <p:blipFill>
          <a:blip r:embed="rId1"/>
          <a:stretch/>
        </p:blipFill>
        <p:spPr>
          <a:xfrm>
            <a:off x="304920" y="2209680"/>
            <a:ext cx="1130040" cy="1041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8a8e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Animals and Insects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arthworms, ants, crawfish, moles, and other organisms improve the soil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til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the ease with which soil can be worked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reate openings in the soil as they tunnel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nhances drainage and improves air exchang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2" descr="C:\Documents and Settings\kmyers.HS-LAPTOP\Local Settings\Temporary Internet Files\Content.IE5\2F8WAHKY\MCBD07377_0000[1].wmf"/>
          <p:cNvPicPr/>
          <p:nvPr/>
        </p:nvPicPr>
        <p:blipFill>
          <a:blip r:embed="rId1"/>
          <a:stretch/>
        </p:blipFill>
        <p:spPr>
          <a:xfrm>
            <a:off x="3048120" y="4164120"/>
            <a:ext cx="2685960" cy="2217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What is soil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808280"/>
            <a:ext cx="822960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yer on the earth’s crust that provides a combination of resource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2" descr="C:\Documents and Settings\kmyers.HS-LAPTOP\Local Settings\Temporary Internet Files\Content.IE5\8XL8TNL2\MPj04331680000[1].jpg"/>
          <p:cNvPicPr/>
          <p:nvPr/>
        </p:nvPicPr>
        <p:blipFill>
          <a:blip r:embed="rId1"/>
          <a:stretch/>
        </p:blipFill>
        <p:spPr>
          <a:xfrm>
            <a:off x="2666880" y="2971800"/>
            <a:ext cx="4267440" cy="3193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What is the importance of soil?</a:t>
            </a: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2249640"/>
            <a:ext cx="35053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il forms a very thin interface between the continental crust, which is about 50 miles thick, and the atmosphere, which is about 170 miles deep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4720" indent="-22716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4038480" y="1916280"/>
            <a:ext cx="5105520" cy="4941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atmosphere, crust, and soil interact to provide these nutr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oper oxyg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oper temperatur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ther various nutrien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52120"/>
            <a:ext cx="640080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xygen—needed for adequate root growth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mperature—determined by the amount of heat the soil absorbs from the sun and the amount it loses to the atmosphere. Temperatures within a particular range are needed for plant growth and seed germin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C:\Documents and Settings\kmyers.HS-LAPTOP\Local Settings\Temporary Internet Files\Content.IE5\1360HSEE\MCj02265420000[1].wmf"/>
          <p:cNvPicPr/>
          <p:nvPr/>
        </p:nvPicPr>
        <p:blipFill>
          <a:blip r:embed="rId1"/>
          <a:stretch/>
        </p:blipFill>
        <p:spPr>
          <a:xfrm>
            <a:off x="6934320" y="2035080"/>
            <a:ext cx="1828800" cy="1312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Documents and Settings\kmyers.HS-LAPTOP\Local Settings\Temporary Internet Files\Content.IE5\TLGKW6I8\MCj04136240000[1].wmf"/>
          <p:cNvPicPr/>
          <p:nvPr/>
        </p:nvPicPr>
        <p:blipFill>
          <a:blip r:embed="rId2"/>
          <a:stretch/>
        </p:blipFill>
        <p:spPr>
          <a:xfrm>
            <a:off x="6934320" y="3809880"/>
            <a:ext cx="1450800" cy="2181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bdc0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752120"/>
            <a:ext cx="67816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er—utilized for growth of pla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bon—utilized in the form of organic matter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trients—provided as minerals. Nitrogen is one mineral made available and recycled through decaying material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3" descr="C:\Documents and Settings\kmyers.HS-LAPTOP\Local Settings\Temporary Internet Files\Content.IE5\1GYL4YA0\MCj03405200000[1].wmf"/>
          <p:cNvPicPr/>
          <p:nvPr/>
        </p:nvPicPr>
        <p:blipFill>
          <a:blip r:embed="rId1"/>
          <a:stretch/>
        </p:blipFill>
        <p:spPr>
          <a:xfrm>
            <a:off x="7086600" y="1066680"/>
            <a:ext cx="1752480" cy="1420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kmyers.HS-LAPTOP\Local Settings\Temporary Internet Files\Content.IE5\8XL8TNL2\MCj02265120000[1].wmf"/>
          <p:cNvPicPr/>
          <p:nvPr/>
        </p:nvPicPr>
        <p:blipFill>
          <a:blip r:embed="rId2"/>
          <a:stretch/>
        </p:blipFill>
        <p:spPr>
          <a:xfrm>
            <a:off x="7132680" y="2666880"/>
            <a:ext cx="170640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Documents and Settings\kmyers.HS-LAPTOP\Local Settings\Temporary Internet Files\Content.IE5\1GYL4YA0\MCj02265360000[1].wmf"/>
          <p:cNvPicPr/>
          <p:nvPr/>
        </p:nvPicPr>
        <p:blipFill>
          <a:blip r:embed="rId3"/>
          <a:stretch/>
        </p:blipFill>
        <p:spPr>
          <a:xfrm>
            <a:off x="7201080" y="4191120"/>
            <a:ext cx="1719000" cy="1218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8c7e"/>
            </a:gs>
            <a:gs pos="100000">
              <a:srgbClr val="f5f7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How does soil help support life?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600" y="2249640"/>
            <a:ext cx="2666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chorag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elps to hold plants in place so they can grow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1026" descr=""/>
          <p:cNvPicPr/>
          <p:nvPr/>
        </p:nvPicPr>
        <p:blipFill>
          <a:blip r:embed="rId1"/>
          <a:stretch/>
        </p:blipFill>
        <p:spPr>
          <a:xfrm>
            <a:off x="2971800" y="2325600"/>
            <a:ext cx="6172200" cy="4456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Soil Components 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lid portions (50 percent of soil volu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65200" indent="-21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Mineral matter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organic material originating from rock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termine the soil’s ability to hold water and provide nutri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nd, silt, and cla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65200" indent="-21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Organic matt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ally decomposed plant and animal matter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ributes to the soil’s fertility as well as improved aeration and water-holding capac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93080" indent="-187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ives soil its dark col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4" descr="C:\Documents and Settings\kmyers.HS-LAPTOP\Local Settings\Temporary Internet Files\Content.IE5\1GYL4YA0\MCj03892860000[1].wmf"/>
          <p:cNvPicPr/>
          <p:nvPr/>
        </p:nvPicPr>
        <p:blipFill>
          <a:blip r:embed="rId2"/>
          <a:stretch/>
        </p:blipFill>
        <p:spPr>
          <a:xfrm>
            <a:off x="7620120" y="219240"/>
            <a:ext cx="1295280" cy="1477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Trebuchet MS"/>
              </a:rPr>
              <a:t>Soil Components</a:t>
            </a:r>
            <a:br>
              <a:rPr sz="3600"/>
            </a:br>
            <a:endParaRPr b="0" lang="en-US" sz="36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ore spac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50 percent of soil volu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i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57520" indent="-2034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5 percent of the soi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ater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57520" indent="-2034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5 percent of the soil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57520" indent="-203400">
              <a:spcBef>
                <a:spcPts val="3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en it rains, water will enter the soil or flow off the soil’s surfa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is a constant fluctuation in the amount of air and water found in the soi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4" descr="C:\Documents and Settings\kmyers.HS-LAPTOP\Local Settings\Temporary Internet Files\Content.IE5\1GYL4YA0\MCj03892860000[1].wmf"/>
          <p:cNvPicPr/>
          <p:nvPr/>
        </p:nvPicPr>
        <p:blipFill>
          <a:blip r:embed="rId2"/>
          <a:stretch/>
        </p:blipFill>
        <p:spPr>
          <a:xfrm>
            <a:off x="7620120" y="219240"/>
            <a:ext cx="1295280" cy="1477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0:22:34Z</dcterms:created>
  <dc:creator>kmyers</dc:creator>
  <dc:description/>
  <dc:language>en-US</dc:language>
  <cp:lastModifiedBy>Alicia Burge</cp:lastModifiedBy>
  <dcterms:modified xsi:type="dcterms:W3CDTF">2012-01-31T20:18:28Z</dcterms:modified>
  <cp:revision>22</cp:revision>
  <dc:subject/>
  <dc:title>Slide 1</dc:title>
</cp:coreProperties>
</file>